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EEC-09C1-461E-9958-007564EB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A8F-2B94-4679-80E9-B3EC80E0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BB7-EF6B-4BE1-A645-A8468010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F8C-D1EC-4C19-B5BC-546CD14A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996-21A4-49E7-8413-A53786BC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2EDF-117F-483A-A8AA-1E27F00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767-8AC5-43B1-9B0C-8297CA86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AD3E-82F2-4499-BD21-270A81E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7FD-6C54-4B7C-9CBE-CE229F6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960-2220-4E12-8CF2-BFE5BEC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3B98-66A3-4CED-8E86-AF566A6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32D-6975-4EDB-99F5-984D914B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AF5D-5684-47A7-8916-01CDA26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1CA-39F9-429F-A503-1942732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070-D37A-4C12-B769-2DC954B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A3E-6252-495A-AD18-501DC05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F491-99C6-41CC-8D59-D66E31EA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E8C-8CB2-4C23-B267-DD726519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EDD-2721-4E29-94B1-E0BFD53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888-1473-445E-8317-2269150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525-53AB-4132-99B6-7BF3F816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FCC-DC79-49B2-8951-237A1AB1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48F-6FA4-4559-B9A0-C7216EC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C9B-8B0F-4515-9C2E-31A5259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A9D-893E-4948-B3F6-B2DB726D34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EB2-210B-48BE-941B-ADFA0E89C7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-micro.msb.le.ac.uk/video/Candida.mov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11280" y="692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ABORATORY ASPECTS OF OPPORTUNISTIC FUNGAL INFECTIONS AND THE RESISTANCE TO ANTIFUNGAL AGENTS IN IMMUNOCOMPROMISED PATIENT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9280" y="4495680"/>
            <a:ext cx="896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M. NICA, T. BIOLAN, E. MOZES, A. DASCALU, D. CALIGA, S. M. ERSCOIU, D. DUICULESCU, E. CEAUSU, P. CALISTRU, I. APOST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Clinical Hospital for Infectious and Tropical Diseases “Dr. V. Babes”  (SVB)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“ Dr. V. Babes Foundation “ (FVB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ucharest, ROMANI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189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Germ tube te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73332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apid screening for identification of Candida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cubate the tubes at 35C for 3 hours on serum, with Candida isolates growth on Sabouraud agar  to form germ tub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Germ tube positiv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= yeast cells with short lateral extensions that do not have a constriction where they meet the parent yeast cel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Candida albicans"/>
          <p:cNvPicPr/>
          <p:nvPr/>
        </p:nvPicPr>
        <p:blipFill>
          <a:blip r:embed="rId1"/>
          <a:stretch/>
        </p:blipFill>
        <p:spPr>
          <a:xfrm>
            <a:off x="900000" y="2924280"/>
            <a:ext cx="4865760" cy="358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andida albica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924280"/>
            <a:ext cx="20098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11280" y="1341360"/>
            <a:ext cx="7543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50920" y="33336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API Candida syst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1341360"/>
            <a:ext cx="83516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tandardized system for rapid identification of the most medical important yeast and yeast-like organisms, in 18-24 ho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I Candida system consists of a strip of tubes containing dehydrated substrates ; it allows 12 colorimetric tests to be performed based on sugar acidification or enzymatic reac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olates screened under specific condition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oculu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ediu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cub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noculum =a  young culture (18-24 hour isolates), standardized to 3 McFarland, incubation at 35 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trips are read visually after 18-24 hours ; a four-digit numerical profile is obtained and compared with those in a database with 15 yeast species ( identification software APILAB Plus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384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4" descr="identcand"/>
          <p:cNvPicPr/>
          <p:nvPr/>
        </p:nvPicPr>
        <p:blipFill>
          <a:blip r:embed="rId1"/>
          <a:stretch/>
        </p:blipFill>
        <p:spPr>
          <a:xfrm>
            <a:off x="1116000" y="1052640"/>
            <a:ext cx="6962760" cy="5591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50920" y="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dentification of Candida albicans in API Candida syst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600200" y="1219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95280" y="1341360"/>
            <a:ext cx="8569440" cy="60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PI ID 32 C consists in a single-use disposable plastic strip with 32 wells that allows 29 assimilation tests, 1 assimilation test with a negative control, 1 susceptibility test, 1 colorimetric test. It contains a carbon dehydrated substr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ncludes a database with 63 different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oculum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young cul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24-48 hour-old standardized 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2McFarla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dium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cubation at 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s are read after 48 hours; automated reading and interpretation of strips with MINIAPI (ATB Technolog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68360" y="549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API ID 32 C identification syst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  <a:ea typeface="Times New Roman"/>
              </a:rPr>
              <a:t>ID 32 C Kits with automatic reading in MiniAPI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1989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Image005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468360" y="26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n vitro susceptibility testing to antifungal agents-ATB FUNGUS 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8360" y="1557360"/>
            <a:ext cx="8497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allows to determine the resistance to antifungal agents in a semi-solid medium for an inoculum of yeast suspension,  in the same conditions as reference method in agreement with EUCAST and NCCL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B Fungus consists of a strip with 16 pairs of cupolas containing 4 dehydrated antifungal agents, in different concentrations able to determine the CMI value. 1 pair of cupola doesn’t contain  antifungal agent being used 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ositive control for culture grow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oculum: a suspension of a Candida culture of 24-48 hours-old by means of a densitometer to a  2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cFarland  stand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90756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efinition criteri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sceptible to usual doses of this agen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-D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sceptibility depends on the dose (fluconazole) or delivery of drug (itraconazole)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sistant to usual doses of this agen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termedi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; N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indeterminate) lack of certainty about the meaning of the MIC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                I                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ucytosine                             &lt;4              8-16              &gt;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uconazol                              &lt;8            16-32          &gt;6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raconazol                           &lt;0,125       0,25-0,5       &gt;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photericina B                    ND             ND            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iscuss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MI for AMB is indeterminate for Candida; although, CMI &gt; 2 g/l is R and CMI &lt;2 g/l is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MIs for FLC, ITR, in intermediate (I) value correspond to S-DD (weak detection by difusimetric methods, exaggerate reporting of resistance to azol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50920" y="189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nterpretation of MIC values for Candida sp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0" y="155736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I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n agar diffusion method us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 strip with a predefined concentration gradien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antimicrobial agent being tested.  This gradient allows for an MIC determination to be made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nded to test susceptibility of Candida spp., Cryptococcus neoformans, Aspergillus spp. to antifungal ag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nical specimens: body sterile fluids. Inoculum standardized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0,5-1 McFarla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culture medi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RPMI 164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L-glutamine, MOPS buffer, D-glucose 2%, Agar Bacteriological), incubation 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35 C, humid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ing at 24-48 ho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4000" y="333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ETest meth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95280" y="0"/>
            <a:ext cx="85345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Determining CMI by ETest method (Aspergillus niger)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68360" y="1989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An external file that holds a picture, illustration, etc., usually as some form of binary object. The name of referred object is jm0620138001.jpg"/>
          <p:cNvPicPr/>
          <p:nvPr/>
        </p:nvPicPr>
        <p:blipFill>
          <a:blip r:embed="rId1"/>
          <a:stretch/>
        </p:blipFill>
        <p:spPr>
          <a:xfrm>
            <a:off x="971640" y="1484280"/>
            <a:ext cx="6684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066680" y="1905120"/>
            <a:ext cx="678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447920" y="1066680"/>
            <a:ext cx="647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79280" y="836640"/>
            <a:ext cx="8785440" cy="78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MI is read where the inhibition ellipse intersect Etest strip. There are a variety of inhibition growth, especially to azol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MIC end point criteria: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MIC fo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amphotericin 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as considered the lowest tested concentration able to prevent visible growth (complete inhibition of growth)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C for azol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as considered as the lowest tested concentration with a significant reduction in growt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at least 50% growth inhibition) compared to growth of a positive control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the inhibition ellipse doesn’t form, the value of CMI is bigger then the maximum CMI for tested antifungal ag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tors that affect readings &amp; interpretation: the density and quantity of inoculum, reading before 24 hours, unequal distribution of humidity or inoculum, the depth of medium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332000" y="189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MI readings &amp;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Opportunistic fungal infection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has become a major medical issue, based on the increasing patient population at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otentially fatal con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fficulty in accurate and quick species identification of these fung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emergence of resistance to antifungal ag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NICAL SPECIMEN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980; blood, cerebrospinal fluid, urine, bronhoalveolar aspirate, from patients with clinical signs of seps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YSTEMIC INFECTIONS OF FUNGAL ETIOLOG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98 (1,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98 ISOLAT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IE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s: Candida albicans: 56 (57,1%); Cryptococcus neoformans: 33 (33,6%); Aspergillus spp.: 9 (9,3%);  Aspergillus niger : 5/ 9; Aspergillus fumigatus : 2/ 9; Aspergillus flavus: 2/ 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tifungal resista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sistance of Candida albica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flucytosine: 2/ 56 (3,6%); amphotericine B: 4/ 56 (7,1%); fluconazole: 10/ 56 (17,8%); itraconazole: 14/ 56 (25,0%); voriconazole: 0/ 56 (0%); Caspofungin: 0/ 56 (0%). Resistance to 1 agent:7/56; 2 agents: 8/56 ; 3 agents: 1/56; 4 agents: 1/5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sistance of Cryptococcus neoforma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flucytosine: 0/ 33 (0%); ; amphotericina B: 0/ 33 (0%); Fluconazol: 1/ 33 (3,0%); itraconazol:  1/ 33 (3,0%);Voriconazol: 0/ 33 (3,0%). One isolate resistant to both fluconazole and itraconazo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% sensibility of Aspergilus spp at azo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fluconazol, itraconazol, voriconazo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onclusions-1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ot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5980 clinical specime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xamined , from immunocompromised patients with systemic infections, admitted in SVB between Jan 2006-Oct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ngal etiology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8 systemic myc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pecies distribu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56 isolates of Candida albicans (57,1%);  33 isolates of Cryptococcus neoformans (33,6%); 9 isolates of Aspergillus spp (9,3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onclusions-2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mergence of in vitro resista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fungal isolates to azoles (eg. Fluconazole), in immunosuppresed patients and need for active surveillance, regarding crossed emergence of resistance to azo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oriconazole and caspofung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excellent in vitro and in vivo activity in systemic infections with opportunistic fung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gent need for introduc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lecular diagno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identification of fungal infections in immunocompromised patients and for documentation of genetic bases of antifungal resist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Objectives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 study the incidence and etiology of invasive mycoses in patients admitted in SVB between Jan 2006 – Oct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 monitor the emergence of in vitro resistance of mycological isolates to antifungal agents, especially to azo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83808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68360" y="404640"/>
            <a:ext cx="81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Material and Meth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47640" y="1557360"/>
            <a:ext cx="84963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ta collection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linical specime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an  2006-Nov 2007, a prospective study from patients with clinical evidence of infections, admitted in our hospi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ast identification procedures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ycological diagn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 vitro susceptibility te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332000" y="260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linical specime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62120" y="114300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341360"/>
            <a:ext cx="8424720" cy="84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lection of patients with clinical evidence of infection (sepsis, meningitidis, urinary infections, pneumonia) from  i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munocompromissed patients, admitted to our hospital: AIDS, tuberculosis, cancer, viral B or C hepatiti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-Clinical specimens from normally sterile sites: blood, cerebrospinal fluid, urine, bronhoalveolar aspir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-A total of 5980 specimens examined in our microbiology la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Yeast identification procedures-1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7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VENTION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croscopic morphology, macroscopic morphology of yeast cultures, biochemical tests, growth at 35-37 C  germ tube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MA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cT/AlerT system, API System (API Candida, API 32 C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OCOL: Conventional identification methods was used  in parallel with commercial (automated) identifications syste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Yeast identification procedures-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RECT MICROSCOP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wet mount colored India Ink, smears colored Giem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pecific media (Sabouraud agar – chloramphenicol or CHROM agar Candida mediu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automated system: Bac T/ALERT (Organon Teknik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classical methods (germ tube test –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ndida albican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automated identification methods (API syste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erological methods: detection of soluble antige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ryptococcu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eoformans, by Latex methods i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rebrospinal fluid and serum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ercially available system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B FUNGUS – 3, E- test method (RPMI 1640 mediu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ndardized method for antifungal susceptibility test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oth microdilution assay according to the National Committee for Clinical Laboratory Standards (NCCLS), document M-27 A2 for yeast and M38-A for mold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ality control stain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dida albicans ATCC 9002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antifungal susceptibility test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24000" y="1341360"/>
            <a:ext cx="83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andida albicans-MO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7" descr="Candida_albicans"/>
          <p:cNvPicPr/>
          <p:nvPr/>
        </p:nvPicPr>
        <p:blipFill>
          <a:blip r:embed="rId1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2:56:48Z</dcterms:created>
  <dc:creator>Marketing</dc:creator>
  <dc:description/>
  <dc:language>en-US</dc:language>
  <cp:lastModifiedBy> </cp:lastModifiedBy>
  <dcterms:modified xsi:type="dcterms:W3CDTF">2007-12-11T13:00:00Z</dcterms:modified>
  <cp:revision>262</cp:revision>
  <dc:subject/>
  <dc:title>Slide 1</dc:title>
</cp:coreProperties>
</file>