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6F6-1E67-4CCD-BC92-3A831699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52E-C509-4453-815E-EA90C504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43A2-131C-4B70-B2FE-85202B3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A49-5CF3-40D4-A491-B0C602BD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8160-0C6E-45C0-A1D9-0FF8D8EE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B757-5BEE-447E-84AE-D3A64032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0572-6640-473B-B95D-9B57BAB7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0D46-035A-401B-A639-497121CC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F67-D8A3-4C67-BC56-1146ED56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BA0F-9265-4641-BC00-97FDD239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9766-9F73-4667-97C1-175B7C3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117-E903-41FC-AEF3-0B5A923E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0B8A-295B-4235-9A24-8F9E568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3E5-3AE4-479E-B022-635E6EAB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CE17-5449-4B38-BDFE-F9369B2E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DE92-A288-4E33-BC70-89EA54A2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8BC7-55B5-47A1-BAB1-6311E2FA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472-8B28-441B-A74B-8FDAEDEF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FB17-3308-4782-9BE4-A64A1550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962-83D5-4CD2-BDB7-66DCBD78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AD8-437A-44DF-A038-600D13A8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C7F-A66D-414E-BCDA-CB2AD7F5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6EC-52C6-4284-AC31-4BCC8E3B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3B8-9BAE-4894-BCDE-3310634D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9C74-75A1-4BF6-AD14-C18FD7A1A9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B2FA-6924-42D4-9331-8C57537221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alenta infectiei cu virusul hepatitei B si virusul hepatitei C 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a personalul medical din centrele de ingrijire si asistenta sociala pentru adulti si copii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ributia persoanelor infectate pe centre medic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65120" y="1828800"/>
          <a:ext cx="730260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828800"/>
                    <a:ext cx="730260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ributia infectiilor VHB si VHC la nivelul personalulu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371600"/>
          <a:ext cx="8001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zultat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540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studiul nostru 8,07% din persoanele testate au fost seropozitive pentru HBV sau HC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revalenta HBV a fost 3,72%, iar pentru HCV 4,34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Nu s-au identificat cazuri de coinfectie HBV + HCV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zultat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n 2 centre medicale implicate in ingrijirea persoanelor cu dizabilitati si persoanelor fara adapost s-au depistat cele mai multe cazuri seropozitive (4, respectiv 5 cazuri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zultat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ate cazurile pozitive s-au inregistrat la ingrijitoare (13 cazur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zurile pozitive depistate au fost infectii nou-diagnosticate (cu o excep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oncluz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nsideram important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testarea personalului medical la angaj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formarea acestuia privind modul de transmitere al hepatitelor si respectarea precautiilor univers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efectuarea de anchete epidemiologice pentru cazurile seropozitive depistate (in 4 dintre aceste cazuri, au existat in istoricul medical si alti factori de risc pentru infectia HBV sau HCV -interventii chirurgicale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utori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r.Marilena Constantin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1, 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r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ca Cerne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Dr.Tatiana Carata Dejoianu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Dr. Ioana Lupu</a:t>
            </a:r>
            <a:r>
              <a:rPr b="0" lang="en-US" sz="29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entrul de Diagnostic si Tratament ,,Dr. Victor Babes”-Bucure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.Medicina de famil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.Epidemiolog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e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ectiile cu HBV si HCV au o prevalenta crescuta in Romani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-7% respectiv 4,9% (cf. OM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alul medical care ingrijeste pacienti cu dizabilitati  si este expus la produse biologice (sange) are un risc crescut de infect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ctiv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eterminarea prevalentei infectiei cu virusurile hepatitelor B si C la personalul medical din centrele de ingrijire si asistenta sociala pentru adulti si copi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erial si metode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tudiu retrospectiv: iun 2009 - mar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sonal medical ingrijire adulti si copii d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5 centre de asistenta sociala si protectie a copilului din Bucure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61 persoane, varsta medie 41 ani, angajate inainte de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stare serologica pentru AgHBs si AntiHCV prin metoda CMIA (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chemiluminescent 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microparticle immunoassay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r. pacienti pe centru medic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371600" y="1447920"/>
          <a:ext cx="73026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73026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tributia pe sex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ributia pe profesi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1981080"/>
          <a:ext cx="678168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7816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umar persoane infecta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167652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generala</cp:lastModifiedBy>
  <dcterms:modified xsi:type="dcterms:W3CDTF">2011-02-20T12:15:5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