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F028-3B61-4FB8-9FE6-4F23A2E8D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D543-1A0D-4FBB-BE1B-EFF2664A5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E55B-E287-40C4-9C93-632D602AA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657B-6409-4C33-AD9E-4F24BA32A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97FB-BB14-4283-ACB5-AEFECE627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A0A3-AD6E-41AB-A9CB-A35A63B21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6BF6-7A56-4102-A62F-F33165E80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4CA7-FEA4-4478-9C12-85660B9E4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4950-5F8D-4A5F-8E5E-39A5D5E06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744A-0D5E-4B2D-A889-6FC37CCC8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2CFA-E619-4D1A-8830-2725F9BF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E054-13BA-4F56-8647-BDAF13140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619D07-2B35-426B-BFD8-476667195F5D}" type="datetime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1E87C1-BAD5-464F-8EAF-ECE3F0E0BDCB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n 5" descr="powerpoint W 25,4x19,52_Página_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065120" y="882360"/>
            <a:ext cx="47134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AMILY DOCTOR -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ATIENT – SPECIALIS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LATHIONSHIP IN PRIMARY C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430520" y="3093840"/>
            <a:ext cx="405900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arilena Constantin,M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amelia Mihaescu,M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Centrul de Diagnostic si Tratament ,,Victor Babes”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Bucuresti,Romani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Imagen 6" descr="powerpoint W 25,4x19,52_Página_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3580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24960" y="2046240"/>
            <a:ext cx="7866360" cy="3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Feedback GP-pacient</a:t>
            </a:r>
            <a:br>
              <a:rPr sz="1400"/>
            </a:b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625320" y="2766960"/>
          <a:ext cx="8083800" cy="1548000"/>
        </p:xfrm>
        <a:graphic>
          <a:graphicData uri="http://schemas.openxmlformats.org/drawingml/2006/table">
            <a:tbl>
              <a:tblPr/>
              <a:tblGrid>
                <a:gridCol w="3886200"/>
                <a:gridCol w="1559160"/>
                <a:gridCol w="263844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ulatii de contr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8 pacien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zarea telefonulu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8 pacien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,4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5 :controale,utilizare telef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:doar utilizarea telefonulu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zare ema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pacien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4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:controale,ema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:doar utilizarea emailulu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Título 1"/>
          <p:cNvSpPr/>
          <p:nvPr/>
        </p:nvSpPr>
        <p:spPr>
          <a:xfrm>
            <a:off x="625320" y="1325520"/>
            <a:ext cx="78663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zul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914400" y="4842000"/>
            <a:ext cx="69548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625320" y="4842000"/>
            <a:ext cx="786636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ata de responsivitate: 287pacienti (75,78%): consultatii de control dupa prima prezentare,utilizarea telefonului,utilizare emai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cients who didn’t come back to GP (93p) had the next reasons for seeking medical attention: check-up 30 (32.25%); acute diseases 59 (63,4%); chronic disease 4 (4,3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Imagen 6" descr="powerpoint W 25,4x19,52_Página_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4960" y="1296720"/>
            <a:ext cx="7866360" cy="4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iscut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25320" y="2130120"/>
            <a:ext cx="8180640" cy="39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0,2%pacienti au primit trimiteri spre specialisti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eedbackul GP-specialist a aratat o rata de responsivitate din partea specialistilor de 88.69%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( scrisori medicale si discutii cu medicii de familie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laborarea GP-specialisti a contribuit la diagnosticul a 82patients (43 cu boli acute, 5 pacienti cu boli incipiente, 2pacienti cu neoplasm in stadii incipiente si 32 pacienti cu multimorbiditate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naliza feedbackului GP-pacient a aratat o rata de responsivitate din partea pacientilor de 75,78%.24,12% pacienti nu au revenit la medicul de familie pentru consultatia de control (63,4% au avut simptome de boala acuta la prima prezentare 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elefonul a fost utilizat pentru 48,47% pacienti( 45,65% din cei care nua au revenit la control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-a comunicat prin e mail cu 4,42%patient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Imagen 6" descr="powerpoint W 25,4x19,52_Página_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4960" y="1297080"/>
            <a:ext cx="786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ncluz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24960" y="2265120"/>
            <a:ext cx="786636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eedbackul medic de familie-specialist a aratat o rata crescuta de responsivitate din partea specialistilor si a contribuit la stabilirea unui  diagnostic preco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r trebui imbunatatit feedbackul medic de familie-pacient pentru o supraveghere mai buna a pacientilo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lefonul a fost un important mod de comunicare cu pacientii ,in special cu aceia care nu aua revenit la consultatia de contro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bunatatirea comunicarii prin email poate fi o solutie  for pentru pacientii care nu au timp suficient pentru a reveni la consulattia de contro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Imagen 6" descr="powerpoint W 25,4x19,52_Página_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625320" y="1793520"/>
            <a:ext cx="526896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Va multumesc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arilena CONSTANT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amelia MIHAESC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entrul de Diagnostic Si Tratament,,Victor Babes”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ucuresti - Roman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1" descr="C:\Users\razvan\Pictures\Centrul-medical-Victor-Babes.jpg"/>
          <p:cNvPicPr/>
          <p:nvPr/>
        </p:nvPicPr>
        <p:blipFill>
          <a:blip r:embed="rId2"/>
          <a:stretch/>
        </p:blipFill>
        <p:spPr>
          <a:xfrm>
            <a:off x="4869000" y="3699000"/>
            <a:ext cx="3844800" cy="2373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Imagen 6" descr="powerpoint W 25,4x19,52_Página_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4960" y="1296720"/>
            <a:ext cx="7866360" cy="3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Sc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24960" y="2693880"/>
            <a:ext cx="7866360" cy="17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escrierea relatiei medic de familie-pacient–specialist in scopu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tabilirii unui diagnostic precoce si corect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mbunatatirii comunicarii medic-pacient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onitorizarea tratamentului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Imagen 6" descr="powerpoint W 25,4x19,52_Página_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4960" y="1296720"/>
            <a:ext cx="7866360" cy="3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Obiec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24960" y="2890800"/>
            <a:ext cx="7866360" cy="13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valuarea relatiei medic de familie specialis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valuarea relatiei medic de familie-paci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Imagen 6" descr="powerpoint W 25,4x19,52_Página_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4960" y="1325520"/>
            <a:ext cx="7866360" cy="3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Meto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69880" y="1871640"/>
            <a:ext cx="8151840" cy="43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80  patientI(86.83%adulti) care s-au adresat medicului de familie in  2009 pentru: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 check-u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 simptome acu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 boli croni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-au urmarit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 biletele de trimitere GP - specialis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 scrisorile medicale catre G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 controlul medical dupa prima prezenta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-au mentionat in fisele medicale ale pacientilo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 discutiile telefonice sau prin email GP-paci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 discutiile GP-specialis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-a evaluat feedbackul medic de familie-pacient si medic de familie-specialis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Imagen 6" descr="powerpoint W 25,4x19,52_Página_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" name="Content Placeholder 4"/>
          <p:cNvGraphicFramePr/>
          <p:nvPr/>
        </p:nvGraphicFramePr>
        <p:xfrm>
          <a:off x="617400" y="1720800"/>
          <a:ext cx="7866360" cy="36226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5" name="Content Placeholder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7400" y="1720800"/>
                    <a:ext cx="7866360" cy="362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4960" y="1325520"/>
            <a:ext cx="7866360" cy="3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zult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6823080" y="3938760"/>
            <a:ext cx="166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80 pat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Imagen 6" descr="powerpoint W 25,4x19,52_Página_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Content Placeholder 5"/>
          <p:cNvGraphicFramePr/>
          <p:nvPr/>
        </p:nvGraphicFramePr>
        <p:xfrm>
          <a:off x="969840" y="1979640"/>
          <a:ext cx="6986880" cy="3855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0" name="Content Placeholder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69840" y="1979640"/>
                    <a:ext cx="6986880" cy="38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4960" y="1325520"/>
            <a:ext cx="7866360" cy="3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zult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6058080" y="3333600"/>
            <a:ext cx="165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80 pat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Imagen 6" descr="powerpoint W 25,4x19,52_Página_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Content Placeholder 5"/>
          <p:cNvGraphicFramePr/>
          <p:nvPr/>
        </p:nvGraphicFramePr>
        <p:xfrm>
          <a:off x="1041480" y="1890720"/>
          <a:ext cx="7264440" cy="4270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5" name="Content Placeholder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1480" y="1890720"/>
                    <a:ext cx="7264440" cy="42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4960" y="1325520"/>
            <a:ext cx="7866360" cy="3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zultate</a:t>
            </a:r>
            <a:br>
              <a:rPr sz="2400"/>
            </a:b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Motivele prezentarii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Imagen 6" descr="powerpoint W 25,4x19,52_Página_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4960" y="2047680"/>
            <a:ext cx="7866360" cy="3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Feedback medic de familie-specialis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24960" y="2787120"/>
            <a:ext cx="7866360" cy="30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ata de responsivitate din partea specialistilor:88.69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in colaboararea GP-specialisti au fost diagnosticati 82pacienti(21,58%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341360" y="2787480"/>
          <a:ext cx="6096240" cy="1114560"/>
        </p:xfrm>
        <a:graphic>
          <a:graphicData uri="http://schemas.openxmlformats.org/drawingml/2006/table">
            <a:tbl>
              <a:tblPr/>
              <a:tblGrid>
                <a:gridCol w="3568680"/>
                <a:gridCol w="2527560"/>
              </a:tblGrid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imiteri GP- special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5(30.2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risori medicale catre G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(26,84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cutii GP-specialis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(11,84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Título 1"/>
          <p:cNvSpPr/>
          <p:nvPr/>
        </p:nvSpPr>
        <p:spPr>
          <a:xfrm>
            <a:off x="625320" y="1325520"/>
            <a:ext cx="78663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zul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P-SPECIALIST  FEEDB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Imagen 6" descr="powerpoint W 25,4x19,52_Página_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7"/>
          <p:cNvSpPr/>
          <p:nvPr/>
        </p:nvSpPr>
        <p:spPr>
          <a:xfrm>
            <a:off x="341280" y="1430280"/>
            <a:ext cx="852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Feedback GP-specia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341280" y="955800"/>
            <a:ext cx="852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zul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Table 10" descr=""/>
          <p:cNvPicPr/>
          <p:nvPr/>
        </p:nvPicPr>
        <p:blipFill>
          <a:blip r:embed="rId2"/>
          <a:stretch/>
        </p:blipFill>
        <p:spPr>
          <a:xfrm>
            <a:off x="268200" y="2060640"/>
            <a:ext cx="2853000" cy="4359240"/>
          </a:xfrm>
          <a:prstGeom prst="rect">
            <a:avLst/>
          </a:prstGeom>
          <a:ln w="0">
            <a:noFill/>
          </a:ln>
        </p:spPr>
      </p:pic>
      <p:pic>
        <p:nvPicPr>
          <p:cNvPr id="78" name="Table 11" descr=""/>
          <p:cNvPicPr/>
          <p:nvPr/>
        </p:nvPicPr>
        <p:blipFill>
          <a:blip r:embed="rId3"/>
          <a:stretch/>
        </p:blipFill>
        <p:spPr>
          <a:xfrm>
            <a:off x="3127320" y="2060640"/>
            <a:ext cx="2852640" cy="4352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9" name=""/>
          <p:cNvGraphicFramePr/>
          <p:nvPr/>
        </p:nvGraphicFramePr>
        <p:xfrm>
          <a:off x="6060960" y="2768760"/>
          <a:ext cx="2625840" cy="3014640"/>
        </p:xfrm>
        <a:graphic>
          <a:graphicData uri="http://schemas.openxmlformats.org/drawingml/2006/table">
            <a:tbl>
              <a:tblPr/>
              <a:tblGrid>
                <a:gridCol w="1030320"/>
                <a:gridCol w="1293840"/>
                <a:gridCol w="301680"/>
              </a:tblGrid>
              <a:tr h="334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NC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ng canc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ARLY STAGE CANC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dney adenocarcinom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lanoma Clark 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ARLY STAGE DISEAS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sacroileiti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Spondilarthrytis HLA B27 positiv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S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leiomyofibrom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cervical poly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LTYMORBIDIT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3T09:37:14Z</dcterms:created>
  <dc:creator>* *</dc:creator>
  <dc:description/>
  <dc:language>en-US</dc:language>
  <cp:lastModifiedBy>mgenerala</cp:lastModifiedBy>
  <dcterms:modified xsi:type="dcterms:W3CDTF">2011-02-20T12:15:15Z</dcterms:modified>
  <cp:revision>34</cp:revision>
  <dc:subject/>
  <dc:title>Diapositiva 1</dc:title>
</cp:coreProperties>
</file>