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F1A-B868-44C3-84A2-1FD74512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332-B25D-4024-9D08-AEFEA526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758-D845-4B31-A61F-8B608549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6FD-8936-42EC-89A6-3B32CA7E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0170-C3BA-49EA-A13C-646B8F01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0F60-0311-43E4-A2BC-0EB88DBD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F24B-1522-424E-A431-DF89DA3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5AA6-F002-4EE7-89DF-79859628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BF96-A49F-4F0B-8E2B-C9953F93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17B6-B370-46CF-9325-94344B1F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59E0-2B03-4B2A-881C-AE11585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C9B-34F8-42AB-AB81-26F666B1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6E34-7305-4EDB-B302-340C0EDC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F6B0-A190-4BDD-AC7E-A6A59A1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1A4F-0DB0-424D-9070-D2D25C00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EC8A-DB28-424B-BFB1-3D27978C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03F2-1EA0-4DC2-854B-8104F204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BF9-63FC-4E4B-9EE5-9D771242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48E-78EA-4A76-AC12-D398F00F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D01-B20F-4097-98EF-1AC29420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24D-F21D-4B32-963F-6057E12A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D55-451C-4564-B581-16E7B0A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A05-0780-426D-B4A6-9C7D73D8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AD7-7865-43A2-81F0-4078A7A9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472-332E-47B6-986C-EF8729A75B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6A82-D89E-4F4D-B001-0F97AECB7E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11280" y="692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LANNING FOR CERVIX SCREENING IN A LOW-RESOURCE SETTING IN EUROP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55640" y="4581360"/>
            <a:ext cx="896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 Iuliana Apostol*, Prof. Dr. Petre Calistru*, Prof. Adriana Baban**, Dr  Florian Nicula***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* Dr. V. Babes Foundation  (FVB), Bucharest, ROMANI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**Babes-Bolyai University (UBB), Cluj, ROMANI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*** National Institute of Oncology Cluj (IONC), Cluj, ROMANI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ccuracy in screening tests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734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n under ideal circumstances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ap screen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nly a moderate effective screening techniqu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even in the best cytology program: many false-negative results!). New techniques with better accuracy: VIA, HPV test or combined techniq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-quality assuring component is essential for an efficient SCC: cytology (good taking-smear, good smear-reader; workload of the lab, time of sending results); HPV  (adequate training, cut-off of positive results); VIA/VILI (adequate training, guidelines for positive result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Accuracy in screening test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0040" y="12859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39960"/>
                <a:gridCol w="274644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Sensitivit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Specific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Cytology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31-78%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91-99%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HPV testing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61-90%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62-94%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V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50-9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44-9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VILI</a:t>
                      </a: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44-9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43"/>
          <p:cNvSpPr/>
          <p:nvPr/>
        </p:nvSpPr>
        <p:spPr>
          <a:xfrm>
            <a:off x="539640" y="6453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Garamond"/>
              </a:rPr>
              <a:t>Source: http://screening.iarc.f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Appropriate treat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28760" y="99972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utpati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ethods (cryotherapy and LEE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Cryotherapy: safe, effective, relative simple and quick (15 min), inexpensive, provided by trained staff (physician/non-physician), easily accepted method, few adverse reactions, no anesthesia needed, equipment required is simple. The most practical method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LEEP: local anesthesia, more complex equipment, more complications-eg bleeding, only physicians; can provide tissue sample for histolo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pati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ethod (cold-knife conization, hysterectomy): more costly, only skilled specialists, regional/general anesthesia, secondary/tertiary health cent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Other factor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000" y="191628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aditional approach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reen, diagnose, confirm, trea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termediate approach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reen, diagnose, treat; confirmation is post-treat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creen and treat approach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eatment only after screen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urce: ACCP 2004: Planning and implementing  Cervical Cancer Prevention and Cancer Contro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ink screening with treatment-approach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539640" y="1890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ink screening with treatment-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24000" y="1052640"/>
            <a:ext cx="84596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ytology testing is a a manual process (collecting, transporting and examining the smear) takes several weeks , even if some well-organized program send the results sooner. (2 or more visi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PV-ADN test: 7 hours; the patient can receive result in the same day and treatment the other day (2 visit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w-cost HPV (CareHPV): 2 and ½ hour (1 visi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A/VILI, result are given in 15 min and treatment in the same day (1 visit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ccination (impact on long-term) but secondary screening must be continued (there are strains of HPV not introduced in vaccine) and treat positive-wom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11280" y="1341360"/>
            <a:ext cx="7543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50920" y="3333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Politic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11280" y="112536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ing coverage grade, frequency of screening and target group and impact desired for the program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ing key stakeholders and their particular roles inside CC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good managemen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the program is essential (a program coordinator; a management team) along wi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quality servic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rovided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reening, treatment, diagnos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ing the authorities and responsibilities of professionals, allocate adequate resources (human, financial, infrastructure) at institutional levels, defining elements of evaluation and monitoring the progra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CP symposium (March 2008): 10 key findings for effective CCS and treatmen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Every woman must have cervical screening at least once in life. In low-resource settings, the optimal age is 30-40 years ol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Cytology-based programs are effective in US/other developed countries, but it is difficult to assure  high-quality for cytology. In low-resources countries should be used cost-effective strategies and more affordable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The most effective strategy for CCP in low-resource settings is screening with either HPV test or VIA, then treating with cryotherap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urce: www.alliance-cxca.or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Effective cervical cancer prevention 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rogram (CCP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vical cancer is a preventable disease; it can be avoided through an effective national program for CC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fectiveness: incidence and mortality by cervical cancer/country has to be low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veloped countr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CCP are mostly cytology-based even if high-tech technologies for screening are continually introduc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veloping countr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low-resource countries): cytology-based screening is inefficient or absent for the whole country or some geographical reg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The use of HPV test followed by cryotherapy results in a greater reduction of CC than the other screening/treatment approach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 Cryotherapy is safe, results in cure rates of 85%, requires some special equipment but simpler than other treatment methods and is appropriate in many settin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 Cryotherapy is protective against the future development of cervical disease; this and low morbidity of method make this treatment (for positive-screened women without confirmation) acceptable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urce: www.alliance-cxca.or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 The routine use of colposcopy between screening-treatment is not efficient, leading to a increased co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except cases with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spicion of invasive cervical canc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 Women, their partners, communities must be engaged in planning and implementing services, in partnership with the health sect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9 For maximum impact, programs require effective training, supervision, and continuous quality improvement mechanis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Additional work is needed to develop rapid, low-cost HPV tests and to improve cryotherapy equipm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urce: www.alliance-cxca.or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onclusion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7120" y="10000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one approach can be recommended, because the big differences in the local needs and cost-efficiency consider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countries with cytology-based screening it may be not appropriate to keep the system in place, if improvements cannot be made. It will be waste of resources!!!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grated new technologies into the existing programs it will be the most appropriate solu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earch is needed to evaluate cost-effectiveness of various screening tests versus no organized screening, per regions appli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-resource countries should organized their programs in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ight of experiences of other countr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ssons  from their past failu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country needs to choose the interventions that best fit for country or some geographical reg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838080" y="2362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Three c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ritical factors for effectiveness 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844640"/>
            <a:ext cx="828036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Achieving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igh screening cover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Offering a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curate screening te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Ensuring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propriate treat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or women tested posi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ACCP 2004: Planning and implementing  Cervical Cancer Prevention and Cancer Contro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High screening coverag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68360" y="404640"/>
            <a:ext cx="81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High screening cover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47640" y="1557360"/>
            <a:ext cx="849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an effectiv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cruitment strateg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eg. invitation letters like in organized SCC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formation &amp; education campaig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est their impa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r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vailable and accessible screening tests &amp; treatment/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geographical reg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 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nitor month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creening coverage/region and intervene when it is low or is decreas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High screening coverage: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key findings for acceptability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r of bad diag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xious for treat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ies in reaching the health care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 satisfaction with health care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barrassment, sh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r of challenging partn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Ways of increasing screening coverage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9840" y="1642680"/>
            <a:ext cx="871380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ngage political key leade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ink research to policy and practic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velop culturally appropriate education material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volve women groups (NGO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nsure positive providers-clients relationship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rain providers on counseling and communication skill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Build on successes and on clients feedback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Accuracy in screening test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332000" y="260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Which are the screening tes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62120" y="114300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928800"/>
            <a:ext cx="8029440" cy="9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ytology: conventional cytology –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p test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liquid-based cytology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B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PV testing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HPV-DN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esting hybrid capture (DigeneHPV test for 13 high-risk, oncogenic strains of HPV); Qiage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areHPV te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a low-cost HPV test (Oct 2008 Lancet Oncology, vol 9, pages 929-93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sual inspection of cervix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IA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acetic acid 3-5%)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ILI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lugol’s iodin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bination methods: -LBC with HPV test (HPV as a secondary screening  ; Lancet Oncology 2006); HPV test more accurate than cytology (HPV test as a primary screening; Lancet Oncology March 2008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2:56:48Z</dcterms:created>
  <dc:creator>Marketing</dc:creator>
  <dc:description/>
  <dc:language>en-US</dc:language>
  <cp:lastModifiedBy>JULY</cp:lastModifiedBy>
  <dcterms:modified xsi:type="dcterms:W3CDTF">2009-01-17T16:13:21Z</dcterms:modified>
  <cp:revision>416</cp:revision>
  <dc:subject/>
  <dc:title>Slide 1</dc:title>
</cp:coreProperties>
</file>